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39F6-8922-4883-BB22-EF4C6D8A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9C3-1BB8-466E-925F-8CBF339C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88DB-68A1-4F8F-9730-EC0F0268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E73D-C811-487E-9CC1-C35EE417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BEC7-247D-4958-AC80-F0EE05F5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E94B-EE26-47C4-A1EC-84A55A3D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C7C5-F609-4AA8-92E2-1296BD70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7911-F27A-43E2-A013-8B2D3AE9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5026-D271-4A8B-AC1C-2E1745A7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069D-5BE6-40F7-B747-AA4666D2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30BA-9A2B-49A6-A4EF-73FED380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F881-C55D-4330-B1B9-C3ED69A7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D113-BC6E-4CEC-B554-072FF99B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F2AB-08F7-46CB-9B57-802A4A54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DCB9-BF37-4B3D-9FE9-6B193733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CE4A-6E9E-4989-9870-4C63C1B1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5D04-7A59-4E95-9273-B5EE9D8F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A9C-2B8A-4ED5-8837-3DBEC5A2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3B0-7F0A-4A42-8F34-82B6B166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10A-CBA1-4A96-B988-AEE64BAB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69B-4A7B-45E2-8130-B7F5E84E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D24-FFAB-4F98-B060-6A320F69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ACF-0D5E-4B94-A5A2-91CE3F36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FAC-B321-4324-ABCD-4D98F613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D792-4007-4598-A555-AED163B4C2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E77B-580E-4090-90D5-6D3358DE36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vedor de Dad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stalação e Configuraçã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ão Li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4. Configurar o arquivo </a:t>
            </a:r>
            <a:br>
              <a:rPr sz="3400"/>
            </a:b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    lexm-db.propert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Edite o arquivo recém criado 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lexml-db.properties substituind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o usuario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 senha do usuário e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 string de conexão jdb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600200" y="4495680"/>
            <a:ext cx="6335640" cy="1676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76520" y="5257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27080" y="5094360"/>
            <a:ext cx="76320" cy="53316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5. Configurando os script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Windo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dite os arquivos install.bat e validar.b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Unix/Linu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dite os arquivos install.sh e validar.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Atualize a variável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LEXML_HOME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com o caminho do diretório onde o validador foi instal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6. Criar as tabelas no ban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Window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ecute o arquivo instalar.b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unix/linux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ecute o arquivo instalar.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ga do banco de d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7. Inserir metadados na base de dados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Se o banco é MySQL utilize a partir da sua aplicação de exportação de metadados inserts do tipo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SERT INTO `registro_item` (`id_registro_item`, `tx_metadado_xml`, `cd_status`, `cd_validacao` , `ts_registro_gmt`)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LUES('oai:ssinf.senado.gov.br:njur/112321', '$OAI_LEXML', 'N', 'I', UTC_TIMESTAMP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Se o banco é Oracle a instrução modifica-se pouco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SERT INTO registro_item (id_registro_item, tx_metadado_xml, cd_status, cd_validacao , ts_registro_gmt) VALUES('oai:ssinf.senado.gov.br:njur/112321', '$OAI_LEXML', 'N', 'I', sysda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bre os d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A regra de formação da coluna id_registro_item é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id_registro_item := prefixo_oai + "/" + chav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prefixo_oai      := 'oai:' + [orgao + "."] + dominio + ":" + sistema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chave            := identificador_interno  + [ ";" + detalhe]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identificador_interno := é a chave do sistema de origem do registro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EXEMPLO: 'oai:ssinf.senado.gov.br:njur/112321'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O valor 'N' da coluna cd_status significa que o registro é nov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O valor 'I' da coluna cd_validacao significa que o registro é pendente de validaçã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A coluna ts_registro_gmt deve receber sempre a data atual UTC ('2008-08-08 08:08:08') dependendo do horário de verão são 2 ou 3 horas a mais do que o horário oficial de Brasília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A coluna tx_metadado_xml deve receber o arquivo XML com os metadados de acordo com o schema lexml_oai.xsd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http://www.lexml.gov.br/sch/oai_lexml.xs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XML de Metad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lexml:LexML xsi:schemaLocation='http://www.lexml.gov.br/oai_lexml http://www.lexml.gov.br/schema/oai_lexml.xsd' xmlns:lexml='http://www.lexml.gov.br/oai_lexml' xmlns:xsi='http://www.w3.org/2001/XMLSchema-instance'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Item formato='text/html' idPublicador='1' tipo='conteudo'&gt;http://www6.senado.gov.br/legislacao/ListaPublicacoes.action?id=223435&lt;/Ite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Item formato='text/html' idPublicador='1' tipo='metadado'&gt;http://www6.senado.gov.br/legislacao/DetalhaDocumento.action?id=223435&lt;/Ite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DocumentoIndividual&gt;urn:lex:br:federal:decreto:1988-10-14;96969@inicio.vigencia;publicacao;1988-10-17~texto;pt-br&lt;/DocumentoIndividual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Epigrafe&gt;Decreto n&amp;#186; 96.969, de 14 de outubro de 1988&lt;/Epigraf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Ementa&gt;ABRE AOS MINISTERIOS DA AGRICULTURA E DO INTERIOR, EM FAVOR DE DIVERSAS UNIDADES OR&amp;#199;AMENTARIAS, O CREDITO SUPLEMENTAR DE CZ 3.780.083.000,00, PARA REFOR&amp;#199;O DE DOTA&amp;#199;&amp;#213;ES CONSIGNADAS NO VIGENTE OR&amp;#199;AMENTO.&lt;/Ementa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Relacionamento tipo='publicacao.oficial'&gt;urn:lex:br:imprensa.nacional:publicacao.oficial;diario.oficial.uniao;secao.1:1988-10-17!pag20142&lt;/Relacionamento&gt;&lt;/lexml:LexML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XML de Metadados (Pub. Oficial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&lt;lexml:LexML xsi:schemaLocation='http://www.lexml.gov.br/oai_lexml http://www.lexml.gov.br/schema/oai_lexml.xsd' xmlns:lexml='http://www.lexml.gov.br/oai_lexml' xmlns:xsi='http://www.w3.org/2001/XMLSchema-instance'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&lt;Item formato='application/pdf' idPublicador='3' tipo='conteudo'&gt;http://www.senado.gov.br/sf/publicacoes/diarios/pdf/CN/2001/04/23042001.pdf&lt;/Item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&lt;DocumentoIndividual&gt;urn:lex:br:congresso.nacional:publicacao.oficial;diario.congresso.nacional:2001-04-23&lt;/DocumentoIndividual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&lt;Epigrafe&gt;Di&amp;#225;rio do Congresso Nacional. 23/04/2001.&lt;/Epigrafe&gt;&lt;/lexml:LexML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ecução do Valid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8. Validando os registros novos no banco de dado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Execut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validar.bat (se window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sh ./validar.sh (se unix/linux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Durante o processamento são gerados os arquivos validacao_err.txt e validacao_log.txt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rimeiro é um relatório dos erros identificados durante a validação e o segundo somente um log dos registros process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tilize o arquivo validacao_err.txt para identificar os registros com er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O Log e os Erros também são registrados no banco de dad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ódu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Validad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Banco de Dados com registro de metad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rograma que valida a estrutura e o perfil dos public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Interface WEB OAI-PM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põe os metadados utilizando o protocolo OAI-PM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Lo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876312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77040" y="0"/>
            <a:ext cx="3666960" cy="5791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7200" y="152280"/>
            <a:ext cx="4876920" cy="1433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8458200" cy="905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0" y="2514600"/>
            <a:ext cx="5410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Arquivo lexml_nbconfig.xml</a:t>
            </a:r>
            <a:br>
              <a:rPr sz="3400"/>
            </a:b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Perfis dos publicado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13487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face WEB – OAI-PM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riar variável de amb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EXML_HOME com o valor do diretório de instalação do validad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opiar arquivo oai.war para um container ja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Tomcat, Jetty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OC4J, em brev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lidador - Pas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Instal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1. Criar conta no banco de da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2. Obter o arquivo de profi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3. Copiar o arquivo de configur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4. Configurar o arquivo lexm-db.proper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5. Configurar os scripts de validação e instal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6. Criar as tabel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arga dos Metada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7. Inserir metadados na base de da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Execução do Validad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8. Validar os metadados inseri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lação e Configuração do Valid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. Criando conta no banco de dados e databa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Usando o Oracl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exemplo utilizando o sql*plus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SQL&gt; connect syste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*digite a senha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SQL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CREATE USER lexmluser IDENTIFIED BY lexmlpasswor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DEFAULT TABLESPACE us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TEMPORARY TABLESPACE tem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QUOTA UNLIMITED ON user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SQL&gt; GRANT CONNECT TO lexmluser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Usando o Mysql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usuario@localhost&gt;mysql -uroot -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mysql&gt; create database lexmldatabas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mysql&gt; GRANT ALL PRIVILEGES ON lexmldatabase.* to 'lexmluser'@'localhost' IDENTIFIED BY 'lexmlpassword' WITH GRANT OPTION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mysql&gt; FLUSH PRIVILEGE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2. Obtendo o arquivo de prof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O arquivo de profile define as combinações possíveis dos elementos localidade, autoridade e tipo de documento de um public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Obs: Na fase de implantação, este arquivo XML será enviado por e-mail a partir do preenchimento da planilha "Perfil Provedor Dados.xls"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77724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3678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3828960"/>
            <a:ext cx="111538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3. Copiar o arquivo de configuração do banco de dad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estiver utilizando Orac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opie o arquivo 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exml-db-ORACLE.properties 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ara: 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exml-db.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estiver utilizando Mysql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opie o arquivo 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exml-db-MYSQL.properties para: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exml-db.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aolima</cp:lastModifiedBy>
  <dcterms:modified xsi:type="dcterms:W3CDTF">2008-10-31T10:22:5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