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370-E78D-4493-BD79-BDACBF37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071-CC27-45A2-888B-8435615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C06-8721-4E42-8791-F6DEDD86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54F-B991-4B6B-9EDE-D40AFD01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350A-B5E8-4982-BA2E-9D8257F0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752C-AA55-4465-B609-A6E42852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A7A4-70A5-4738-B6DF-7D7261E0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D8CB-5302-4362-BBC3-7A6A5057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05C6-A157-4754-A766-581DF02B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B3E0-422A-43FD-A2F0-128131FB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0B5C-00A3-4774-8AC4-64259066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222-F0D9-4DF3-AAF1-A5F0F48C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3916-B780-4CFE-B768-8CC5C6AF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164E-F4B0-40BB-AC69-68CE9A3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000F-5814-43A7-ACA7-BBC988C3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9DB6-9CB9-466A-973B-5F26FC69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6960-020F-4D8A-A326-0D544D67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8C2-9C14-4785-8F3F-56E43893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93B-184B-44DB-A3F2-44AAE0F9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B55-3692-437B-B7F0-2A3E44EB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EF0-59C8-471F-BC9B-2281DF0C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E2B-12BC-4D90-BBDE-BA6819E2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F8A-ADB8-4CD1-A7CA-8FFDF0B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C4E-BF94-45FF-92F4-33933E8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B4B4-BAB0-4D21-A2F2-23AA5462D8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53EF-AE7B-4356-9AB0-2D00E8DEF8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vedor de D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stalação e Configur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ão L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4. Configurar o arquivo 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    lexm-db.propert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dite o arquivo recém cria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exml-db.properties substituind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 usuario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enha do usuário e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tring de conexão jdb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6335640" cy="1676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6520" y="5257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509436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. Configurando os scrip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dite os arquivos instalar.bat e valid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Lin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daptar os scripts para sua instalaçã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. Criar as tabelas no ban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unix/linux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ga do banco de d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7. Inserir metadados na base de dados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MySQL utilize a partir da sua aplicação de exportação de metadados inserts do tip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`registro_item` (`id_registro_item`, `tx_metadado_xml`, `cd_status`, `cd_validacao` , `ts_registro_gmt`)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UES('oai:ssinf.senado.gov.br:njur/112321', '$OAI_LEXML', 'N', 'I', UTC_TIMESTAMP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Oracle a instrução modifica-se pouc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registro_item (id_registro_item, tx_metadado_xml, cd_status, cd_validacao , ts_registro_gmt) VALUES('oai:ssinf.senado.gov.br:njur/112321', '$OAI_LEXML', 'N', 'I', sys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bre os 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regra de formação da coluna id_registro_item é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_registro_item := prefixo_oai + "/" + chav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prefixo_oai      := 'oai:' + [orgao + "."] + dominio + ":" + sistema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chave            := identificador_interno  + [ ";" + detalhe]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entificador_interno := é a chave do sistema de origem do registr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EXEMPLO: 'oai:ssinf.senado.gov.br:njur/112321'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N' da coluna cd_status significa que o registro é nov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I' da coluna cd_validacao significa que o registro é pendente de validaç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s_registro_gmt deve receber sempre a data atual UTC ('2008-08-08 08:08:08') dependendo do horário de verão são 2 ou 3 horas a mais do que o horário oficial de Brasília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x_metadado_xml deve receber o arquivo XML com os metadados de acordo com o schema lexml_oai.xsd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http://www.lexml.gov.br/sch/oai_lexml.xs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XML de Meta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lexml:LexML xsi:schemaLocation="http://projeto.lexml.gov.br/esquemas/oai_lexml.xsd" xmlns:lexml="http://www.lexml.gov.br/oai_lexml" xmlns:xsi="http://www.w3.org/2001/XMLSchema-instanc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Item formato="text/html" idPublicador="1" tipo="conteudo"&gt; http://www6.senado.gov.br/legislacao/ListaPublicacoes.action?id=132554 &lt;/Item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Item formato="text/html" idPublicador="1" tipo="metadado"&gt; http://www6.senado.gov.br/legislacao/DetalhaDocumento.action?id=132554 &lt;/Item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DocumentoIndividual&gt;urn:lex:br:federal:lei:1988-12-02;7682@inicio.vigencia;publicacao;1988-12-05~texto;pt-br &lt;/DocumentoIndividua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Epigrafe&gt;Lei nº 7.682, de 02 de dezembro de 1988&lt;/Epigrafe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Ementa&gt;ALTERA O DECRETO-LEI 2.406, DE 5 DE JANEIRO DE 1988, E DA OUTRAS PROVIDENCIAS.&lt;/Ementa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Relacionamento tipo="publicacao.oficial"&gt;urn:lex:br:imprensa.nacional:publicacao.oficial;diario.oficial.uniao:1988-12-05@1988-12-05;publicacao;1988-12-05~texto;pt-br&lt;/Relacionamento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/lexml:LexM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8. Validando os registros novos no banco de dad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t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validar.bat (se window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h ./validar.sh (se unix/linu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urante o processamento são gerados os arquivos de erros e log de execuçã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meiro é um relatório dos erros identificados durante a validação e o segundo somente um log dos registros process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e o arquivo validacao_err.txt para identificar os registros com er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Log e os Erros também são registrados no banco de da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7631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ódu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alida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Banco de Dados com registro de metad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grama que valida a estrutura e o perfil dos public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WEB OAI-PM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põe os metadados utilizando o protocolo OAI-PM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77040" y="0"/>
            <a:ext cx="3666960" cy="5791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4876920" cy="1433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845820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0" y="2514600"/>
            <a:ext cx="5410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Arquivo lexml_nbconfig.xml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Perfis dos publicad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3487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WEB – OAI-PM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piar arquivo oai.war para um container ja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Tomca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Jetty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OC4J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nfigurar/Atualizar em WEB-INF os arquiv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_nbconfig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idador - Pas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1. Criar conta no banco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2. Obter o arquivo de profi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3. Copiar o arquivo de configur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4. Configurar o arquivo lexm-db.proper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5. Configurar os scripts de validação e 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6. Criar as tabe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arga dos Meta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7. Inserir metadados na base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8. Validar os metadados inseri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ação e Configura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 Criando conta no banco de dados e databa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Orac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exemplo utilizando o sql*plu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connect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*digite a senh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CREATE USER lexmluser IDENTIFIED BY lexmlpasswor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DEFAULT TABLESPACE us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TEMPORARY TABLESPACE tem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QUOTA UNLIMITED ON us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GRANT CONNECT TO lexmlus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Mysql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uario@localhost&gt;mysql -uroot -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create database lexmldataba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GRANT ALL PRIVILEGES ON lexmldatabase.* to 'lexmluser'@'localhost' IDENTIFIED BY 'lexmlpassword' WITH GRANT O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FLUSH PRIVILEG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2. Obtendo o arquivo de pro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 arquivo de profile define as combinações possíveis dos elementos localidade, autoridade e tipo de documento de um public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bs: Na fase de implantação, este arquivo XML será enviado por e-mail a partir do preenchimento da planilha "Perfil Provedor Dados.xls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7724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367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828960"/>
            <a:ext cx="11153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 Copiar o arquivo de configuração do banco de dad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 estiver utilizando Orac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\oracle\lexml-db-ORACLE.properties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ara: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 estiver utilizando Mysq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\mysql\lexml-db-MYSQL.properties para: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outros SGBD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daptar as strings de conexão e drivers para o sistemas gerenciador desejad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Copie o arquivo do drive JDBC para o diretório li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OBSERVACAO: caso você esteja usando o driver da Oracle veja se o arquivo é adequado a versão e release do seu gerenciad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aolima</cp:lastModifiedBy>
  <dcterms:modified xsi:type="dcterms:W3CDTF">2009-05-07T21:39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